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FD1-CAD7-4D13-AC4F-47B7C199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B73-F33A-4C0A-BF52-0CD6368F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C894-FD64-4F20-A593-417D974C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BB7-4784-4F07-A216-8EA3AC62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E7BF-B69A-4C11-85FC-80F86FEF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834E-E3F5-4C5F-B5BE-3EEE3FF5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F62-F5D9-447A-8150-60757F82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BE23-88D7-49AA-903A-7619AB96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D0A-7B8A-4305-B91D-86FB3F87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44D2-F70B-4082-BC4A-1CCE4267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F0E-E1B8-44DA-BD11-FCCABA26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FE95-9508-4E2C-839E-0A9E9842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1386-75B7-46F5-9963-DFD3D613CA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072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 Ćup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4, unit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egre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ithin a few minutes or within the first ho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phalopathy with conv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lamp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ction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 crises (Pheochromocytoma cri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few ho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hypertensive heart failure (pulmonary edema I-II deg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eclamp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ed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00" y="112500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3" descr=""/>
          <p:cNvPicPr/>
          <p:nvPr/>
        </p:nvPicPr>
        <p:blipFill>
          <a:blip r:embed="rId1"/>
          <a:stretch/>
        </p:blipFill>
        <p:spPr>
          <a:xfrm>
            <a:off x="457200" y="2236680"/>
            <a:ext cx="82296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y in hypertensive crisis (vasodilators or adrenergic inhibi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500200"/>
            <a:ext cx="822960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epend solely on the degree of therapeutic urgency and not on the pressure val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g eclampsia with convulsion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of regulation of arterial hypertension, as well as the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 of arterial hypertension, a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pulmonary edema, aortic dissection → decrease in 15 to 3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 → decrease by 25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B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2-3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decrease to a value of 170-180/100mmHg during 6-12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apeutic strategies in hypertensive patients with acute stroke and cerebrovascular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29600" cy="4586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788000" y="5229360"/>
            <a:ext cx="228600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3995640" y="2708280"/>
            <a:ext cx="2286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- parenteral or 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vantage of parenteral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n the easy and quick monitoring of the hypotensive effect, but also in the method of administration in life-threatening patients (impossibility of per os administration, impaired conscious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 nitroprus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 (Medicine of choice), cerebral hemorrhage or infarction, acute left ventricular weakness, acute coronary insufficiency, aneurysm dissection, catecholamine crisis, head injury, after surgery, malignant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roglycerin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LV weakness, acute coronary insufficiency, postop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892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pid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pheral blocker of postsynaptic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ά1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ergic receptors (reduces peripheral vascular resistance), central sympatholytic effect, manifested in 2 to 5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V insu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alazine, Diaz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lampsia, extensive burns, malignant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856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tolamin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 cr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tal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, acute coronary insufficiency, burns, postoperative, malignant hypertension (not in broncho-obstruction, AV block, SA b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 crisis-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dden and larg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blood pressure values in a short time interval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currently, the absolute measured blood pressure values are less important for defining the hypertensive crisis itself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or with signs of vascular damage to vital organs (encephalopathy, kidney and heart failure)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840" y="106164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o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256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opril, enalapril, rami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i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fedi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532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rrent recommendations for therapeutic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557360"/>
          <a:ext cx="7416720" cy="5754600"/>
        </p:xfrm>
        <a:graphic>
          <a:graphicData uri="http://schemas.openxmlformats.org/drawingml/2006/table">
            <a:tbl>
              <a:tblPr/>
              <a:tblGrid>
                <a:gridCol w="2112840"/>
                <a:gridCol w="2651400"/>
                <a:gridCol w="2652480"/>
              </a:tblGrid>
              <a:tr h="3736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Diagn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Medicine of ch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ontraind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erebral isch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e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erebral hemorrh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Hypertensive encephalo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glyce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cute left ventricular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roglyce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ortic dis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Eclamp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troglyceri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-hydralaz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e therapy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risis, it is not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1989000"/>
          <a:ext cx="8275680" cy="4268880"/>
        </p:xfrm>
        <a:graphic>
          <a:graphicData uri="http://schemas.openxmlformats.org/drawingml/2006/table">
            <a:tbl>
              <a:tblPr/>
              <a:tblGrid>
                <a:gridCol w="4426200"/>
                <a:gridCol w="3849480"/>
              </a:tblGrid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lower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P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o quick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bound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omenon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ctive tachycardia, arrhythmia, arterial hypertens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treat with sublingual nifedip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"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bound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ome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 requirements of the myocardium for 02, cerebral hypoperfu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treat every crisis with parenteral furosem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olyte imbal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Do not treat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wi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 N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 intracranial pres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eral precautions in the treatment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priate lying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elderly, start with a lower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t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istics of a good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cam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used in the therapy of hypertensive cris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 pressure is not lowered too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is titratable and that the hypotensive effect can be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re are no contraindications for various clinical manifestations of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re are no significant interactions with other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is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side effects are rare and m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change in definition and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ymptomat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w called chronic unrecognized hyper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h signs of vascular damage to vital orga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cephalopathy, kidney and heart failure)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idem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that have essent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ly in normotensive patients (stress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um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en onset, progressive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or with signs of vascular damage to vital organs (encephalopathy, kidney and heart failur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anxiety, fear, suff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phalopathy (headache, nausea, vomi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dema, decreased rena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lmark of this condition is small artery fibrinoid necrosis in the kidney, retina, and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 and H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mediated organ damage (HMOD) refers to structural or functional changes in arteries or in target organs that can be present in long-standing hypertension, but it can be also found in naive never treated patients, or in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lmark of this condition is small artery fibrinoid necrosis in the kidney, retina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 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ency or emergenc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emergency are situations in which severe hypertension (grade 3) is associated with acute HMOD, which is often life-threatening and requires immediate but careful intervention to lower BP, usually with intravenous thera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and magnitude of an increase in BP must be at least important as the absolute level of BP in determining the magnitude of organ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ency or emergency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presentation 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ertension emergency are patients with malignant hypertension (fundoscopic change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lame haemorrhages with/or papilloedema, microangiopathy, and can be associated with encephalopathy, acute hearth failure, and acute deterioration in renal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most important rules in the treatment of hypertensiv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of blood pressure regulation depends on the degree of therapeutic ur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5:51:59Z</dcterms:created>
  <dc:creator>Registered User</dc:creator>
  <dc:description/>
  <dc:language>en-US</dc:language>
  <cp:lastModifiedBy>Violeta</cp:lastModifiedBy>
  <dcterms:modified xsi:type="dcterms:W3CDTF">2023-08-19T17:35:44Z</dcterms:modified>
  <cp:revision>85</cp:revision>
  <dc:subject/>
  <dc:title>Hipertenzivna kriza-hitno ili urgentno stan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