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72B-CBA6-4322-A6EF-D15F40D3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402-654E-4A1F-9A53-CB46C0A7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14A-B552-45CF-BBC3-DA91681B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7AA-F1DF-409D-9F1B-11BCFA4E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F96-7B19-4F09-808C-534FBC27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17C-468E-49A3-9DB6-23701ABD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E10-E01B-43B9-BE81-CC874CB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F50-5148-400B-9765-09FC4FEC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4BB-303E-47F2-B1C7-2FC7E601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C08-CDA2-4829-B8CA-16454470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323-2927-43CA-86A0-28D60604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B62-F765-4A34-9592-5B520E72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2F65-3820-4807-827C-BB204617D1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gr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in a few minutes or within the first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with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es (Pheochromocytoma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few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ertensive heart failure (pulmonary edema I-II de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y in hypertensive crisis (vasodilators or adrenergic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solely on the degree of therapeutic urgency and not on the pressure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eclampsia with convulsio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regulation of arterial hypertension, as well as the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of arterial hypertension,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ulmonary edema, aortic dissection → decrease in 15 to 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→ decrease by 25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2-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decrease to a value of 170-180/100mmHg during 6-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utic strategies in hypertensive patients with acute stroke and cerebr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788000" y="5229360"/>
            <a:ext cx="2286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- parenteral or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 of parenteral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the easy and quick monitoring of the hypotensive effect, but also in the method of administration in life-threatening patients (impossibility of per os administration, impaired consci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 nitroprus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(Medicine of choice), cerebral hemorrhage or infarction, acute left ventricular weakness, acute coronary insufficiency, aneurysm dissection, catecholamine crisis, head injury, after surgery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lycer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LV weakness, acute coronary insufficiency, post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blocker of postsynapt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1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ergic receptors (reduces peripheral vascular resistance), central sympatholytic effect, manifested in 2 to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V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lazine, Diaz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, extensive burns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tolamin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, acute coronary insufficiency, burns, postoperative, malignant hypertension (not in broncho-obstruction, AV block, SA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 crisis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dden and larg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blood pressure values in a short time interva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currently, the absolute measured blood pressure values are less important for defining the hypertensive crisis itself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opril, enalapril, rami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recommendations for therapeutic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557360"/>
          <a:ext cx="7416720" cy="5754600"/>
        </p:xfrm>
        <a:graphic>
          <a:graphicData uri="http://schemas.openxmlformats.org/drawingml/2006/table">
            <a:tbl>
              <a:tblPr/>
              <a:tblGrid>
                <a:gridCol w="2112840"/>
                <a:gridCol w="2651400"/>
                <a:gridCol w="2652480"/>
              </a:tblGrid>
              <a:tr h="3736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Medicine of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ontrain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is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e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ypertensive encephal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cute left ventricula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ortic dis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clam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troglycer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therapy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, it i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lower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n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e tachycardia, arrhythmia, arterial hyperten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with sublingual nifedi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requirements of the myocardium for 02, cerebral hypoper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every crisis with parenteral furose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lyte im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o not treat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wi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intracranial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precautions in the treatment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ly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lderly, start with a lower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m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sed in the therapy of hypertensive cri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ressure is not lowered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titratable and that the hypotensive effect can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contraindications for various clinical manifestations of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significant interactions with other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ide effects are rare and 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hange in definition and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ymptoma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called chronic unrecognized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h signs of vascular damage to vital org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that have essent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in normotensive patients (stres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 onset, progressiv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anxiety, fear, suff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(headache, nausea, vom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, decreased re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,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 and 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mediated organ damage (HMOD) refers to structural or functional changes in arteries or in target organs that can be present in long-standing hypertension, but it can be also found in naive never treated patients, or in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emergency are situations in which severe hypertension (grade 3) is associated with acute HMOD, which is often life-threatening and requires immediate but careful intervention to lower BP, usually with intravenous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nd magnitude of an increase in BP must be at least important as the absolute level of BP in determining the magnitude of orga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resentation 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ension emergency are patients with malignant hypertension (fundoscopic chang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ame haemorrhages with/or papilloedema, microangiopathy, and can be associated with encephalopathy, acute hearth failure, and acute deterioration in ren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important rules in the treatment of hypertensiv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blood pressure regulation depends on the degree of therapeutic u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Violeta</cp:lastModifiedBy>
  <dcterms:modified xsi:type="dcterms:W3CDTF">2023-08-19T17:35:44Z</dcterms:modified>
  <cp:revision>85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