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721-0E07-4EE0-BFAD-0D98B2726AE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4B5-C279-424A-BA46-71871F1C37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20T11:50:18Z</dcterms:modified>
  <cp:revision>223</cp:revision>
  <dc:subject/>
  <dc:title>Slide 1</dc:title>
</cp:coreProperties>
</file>