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4AE-A2D3-4052-A4A5-672A7806C42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F66-3404-477F-802B-778503354A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19T17:29:03Z</dcterms:modified>
  <cp:revision>222</cp:revision>
  <dc:subject/>
  <dc:title>Slide 1</dc:title>
</cp:coreProperties>
</file>