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B71-3BC3-4598-B4D5-49861488CF7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300-29A2-4493-AD2D-01DCF050B7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20T11:50:18Z</dcterms:modified>
  <cp:revision>223</cp:revision>
  <dc:subject/>
  <dc:title>Slide 1</dc:title>
</cp:coreProperties>
</file>