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C97A-D3AE-4048-9F30-5E51E4C98EA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849-2635-41EE-A4AC-6DD9011D78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19T17:29:03Z</dcterms:modified>
  <cp:revision>222</cp:revision>
  <dc:subject/>
  <dc:title>Slide 1</dc:title>
</cp:coreProperties>
</file>